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0C61-4C28-4B1E-AD90-3C5956119C1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эпох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ассицизма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обзорная л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90B0-5799-42B6-9576-69D381E5BC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творчества Й.Гайд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дна можно назвать отцом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трунного квар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ладающего следующими типическ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 – две скрипки, альт и виолонче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етырехчастность (аллегро в сонатной форме, медленная часть, менуэт и фи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ондо-сон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8C83-7B54-410F-AA63-9C27F021FF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льфга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адей Моца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душие и склонность к едкому сарказм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чливость и житейская искуш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ость и склонность к глубокой меланхолии – вплоть до патологичес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мие (он безжалостно передразнивал окружающих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нравственность (хотя он не слишком жаловал церковь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м, реалистический взгляд на жиз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однажды написал 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«У тебя сплошные крайности, ты не знаешь золотой середин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5380-C090-4BDD-B77D-217C96FBEF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имфо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церту, дивертисмент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вартету, оп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ессе, сона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707D-120D-48E2-B623-C9CAEFBA5F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 А. Моц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ообще в венский период Моцарт создал собственный, исключительно самобытный сти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5181-332B-48D8-A37B-686467A58C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Занимательно: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, как известно, был вундеркиндом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бящий отец отнял у малыша неоконченную нотную запись, он изумленно воскликнул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 этот концерт так труден, что его никто не сможет сыграть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глупости, папа! - возразил Моцарт,- его может сыграть даже ребено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820F-5A5F-4C8C-BC48-2ADBCC6DD1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виг Ван Бетхов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70–18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композитор, которого нередко считают величайшим творцом всех врем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творчество относят как к классицизму, так и к романт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Бетховена - прежде всего выражение его гениальн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DC0B-C523-42CF-9152-DCD68DBC30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артитуры требую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большего числа исполнителей в каждой парт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вероятного в его эпоху исполнительского мастерства каждого оркестрант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D70A-3461-4F07-96F6-A6A83D8DE9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че говоря, Бетховен творит музыкальное пространство силой ума, собственной вол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6F3E-1C38-4B7C-A24C-63E3E1E6FD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Классиц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classicus - образцовы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A077-F438-4111-8010-4D90A9EC04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Эпоха Просвещен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793D-B7C5-4350-AC11-5EC656C407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ни Дидр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1200" spc="-1" strike="noStrike">
                <a:solidFill>
                  <a:srgbClr val="eeece1"/>
                </a:solidFill>
                <a:latin typeface="Calibri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DF9D-FF0B-43E0-9687-44A7519AF0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4C39-AB60-45AE-8B9B-D10DD07B6C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93D3-7D73-40F9-849E-ACA33C0A0C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406F-1D30-4888-915E-854EF3B447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813B-5A9F-4460-8B79-10C16DD94A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Гайд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ский композитор середины 18 в. имел в своем распоряжении несколько разных стиле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ерный: в нем итальянская манера преобладала вплоть до времен Моцар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ет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B958-E7D8-436D-B7BE-ED58061AF2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F6E-AFD8-4EAC-BF78-89CC630B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890-6281-46EA-94D6-A2647793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5E8-833C-451B-BB2F-305FBE79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72E-8721-4A14-B48D-797F27D3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DEF-1332-47E6-A2F3-12273F61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5A2-145F-462C-9174-9E27FE27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AB4-B924-4A02-A93D-F32D5995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A86-A8F2-4D30-BC63-808BCFC0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C48-2E48-4208-99AC-D9B8CDA3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0B7-E1A9-4B3D-AD00-8F3A98F7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D7F-A9E5-4CD2-AFA1-267D34B2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33A-DD48-4146-A05A-E5FBD3D5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2F4F-6389-415C-96FB-52DDBD9E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8F24-1045-4E3B-AFBC-3EF66D7E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642E-0AF1-4BA9-9D9D-E8BFEBCA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AD76-E6A9-4533-B6BD-A98374E1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8E18-A812-415E-87ED-7A8D533D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098E-1052-41C8-8EBC-EAD21020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DA5E-4966-4508-AD81-77727C3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B8C5-0CF0-4FEB-B86E-60220B44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3148-507D-4CE8-9706-84331B0D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2FB6-FF9A-4DF1-B35C-D96648B7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E283-214C-442F-B557-40B20C00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59C3-628E-4D6D-9699-7B3E8D2E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range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78BB-BFD7-46E1-B430-511DE6FC8F5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Orange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ED31-FB51-44E7-9D51-E2960EE86EF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02468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зыка эпохи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Классицизма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(обзорная лек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495680" y="6054840"/>
            <a:ext cx="33530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58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Значение творчества Й.Гайдна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дна можно назвать отцом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струнного квар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ладающего следующими типическими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остав – две скрипки, альт и виолонч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четырехчастность (аллегро в сонатной форме, медленная часть, менуэт и фин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рондо-со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Вольфганг</a:t>
            </a:r>
            <a:br>
              <a:rPr sz="3400"/>
            </a:b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Амадей Моцарт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ликодушие и склонность к едкому сарказму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бячливость и житейская искушенность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селость и склонность к глубокой меланхолии – вплоть до патологическо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строумие (он безжалостно передразнивал окружающих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сокая нравственность (хотя он не слишком жаловал церковь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ционализм, реалистический взгляд на жизн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тец однажды написал ему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Arial"/>
              </a:rPr>
              <a:t>«У тебя сплошные крайности, ты не знаешь золотой середины»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123572289885cd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95640" y="1557000"/>
            <a:ext cx="468000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симфонии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онцерту, дивертисменту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вартету, опер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мессе, сонат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трио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23572289711a5"/>
          <p:cNvPicPr/>
          <p:nvPr/>
        </p:nvPicPr>
        <p:blipFill>
          <a:blip r:embed="rId1"/>
          <a:stretch/>
        </p:blipFill>
        <p:spPr>
          <a:xfrm>
            <a:off x="611280" y="1628640"/>
            <a:ext cx="3200400" cy="4000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98764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1341360"/>
            <a:ext cx="77058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Но вообще в венский период Моцарт создал собственный, исключительно самобытный стиль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557000"/>
            <a:ext cx="73440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f5f5f"/>
                </a:solidFill>
                <a:latin typeface="Garamond"/>
              </a:rPr>
              <a:t>Занимательно:</a:t>
            </a:r>
            <a:br>
              <a:rPr sz="29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Моцарт, как известно, был вундеркиндом: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огда любящий отец отнял у малыша неоконченную нотную запись, он изумленно воскликнул: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Но этот концерт так труден, что его никто не сможет сыграть!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Какие глупости, папа! - возразил Моцарт,- его может сыграть даже ребенок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апример я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623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Людвиг Ван Бетховен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(1770–1827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4208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цкий композитор, которого нередко считают величайшим творцом всех врем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творчество относят как к классицизму, так и к романт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я Бетховена - прежде всего выражение его гениальн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1235722647d751"/>
          <p:cNvPicPr/>
          <p:nvPr/>
        </p:nvPicPr>
        <p:blipFill>
          <a:blip r:embed="rId1"/>
          <a:stretch/>
        </p:blipFill>
        <p:spPr>
          <a:xfrm>
            <a:off x="5985000" y="2133720"/>
            <a:ext cx="2901960" cy="3671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6920" y="1844640"/>
            <a:ext cx="64803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Его партитуры требуют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первых, большего числа исполнителей в каждой партии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вторых, невероятного в его эпоху исполнительского мастерства каждого оркестранта.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453360"/>
            <a:ext cx="7775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80680" y="549360"/>
            <a:ext cx="53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Ван 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4170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наче говоря, Бетховен творит музыкальное пространство силой ума, собственной воле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9600" y="404640"/>
            <a:ext cx="539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</a:t>
            </a:r>
            <a:r>
              <a:rPr b="0" lang="ru-RU" sz="9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Ван </a:t>
            </a:r>
            <a:r>
              <a:rPr b="0" lang="ru-RU" sz="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900000" y="134136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3200" spc="-1" strike="noStrike">
                <a:solidFill>
                  <a:srgbClr val="5f5f5f"/>
                </a:solidFill>
                <a:latin typeface="Times New Roman"/>
              </a:rPr>
              <a:t>classicus - образцовы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00000" y="260280"/>
            <a:ext cx="554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006633"/>
                </a:solidFill>
                <a:latin typeface="Arial"/>
              </a:rPr>
              <a:t>Класс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05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700" spc="-1" strike="noStrike">
                <a:solidFill>
                  <a:srgbClr val="5f5f5f"/>
                </a:solidFill>
                <a:latin typeface="Arial"/>
              </a:rPr>
              <a:t>Эпоха Просвещения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1050316"/>
          <p:cNvPicPr/>
          <p:nvPr/>
        </p:nvPicPr>
        <p:blipFill>
          <a:blip r:embed="rId1"/>
          <a:stretch/>
        </p:blipFill>
        <p:spPr>
          <a:xfrm>
            <a:off x="324000" y="2421000"/>
            <a:ext cx="1584000" cy="2232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02520" y="3719160"/>
            <a:ext cx="2735280" cy="2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Дени Дидро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30456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2100" spc="-1" strike="noStrike">
                <a:solidFill>
                  <a:srgbClr val="5f5f5f"/>
                </a:solidFill>
                <a:latin typeface="Arial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Дидро Дени"/>
          <p:cNvPicPr/>
          <p:nvPr/>
        </p:nvPicPr>
        <p:blipFill>
          <a:blip r:embed="rId1"/>
          <a:stretch/>
        </p:blipFill>
        <p:spPr>
          <a:xfrm>
            <a:off x="6156360" y="549360"/>
            <a:ext cx="2849400" cy="30686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250920" y="692280"/>
            <a:ext cx="6480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aust"/>
          <p:cNvPicPr/>
          <p:nvPr/>
        </p:nvPicPr>
        <p:blipFill>
          <a:blip r:embed="rId1"/>
          <a:stretch/>
        </p:blipFill>
        <p:spPr>
          <a:xfrm>
            <a:off x="6659640" y="476280"/>
            <a:ext cx="2376360" cy="2492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755640" y="2781360"/>
            <a:ext cx="7632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igaro"/>
          <p:cNvPicPr/>
          <p:nvPr/>
        </p:nvPicPr>
        <p:blipFill>
          <a:blip r:embed="rId1"/>
          <a:stretch/>
        </p:blipFill>
        <p:spPr>
          <a:xfrm>
            <a:off x="5796000" y="189000"/>
            <a:ext cx="2324160" cy="253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faust2"/>
          <p:cNvPicPr/>
          <p:nvPr/>
        </p:nvPicPr>
        <p:blipFill>
          <a:blip r:embed="rId2"/>
          <a:stretch/>
        </p:blipFill>
        <p:spPr>
          <a:xfrm>
            <a:off x="755640" y="189000"/>
            <a:ext cx="3817800" cy="2544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24000" y="62064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Franz_Joseph_Haydn"/>
          <p:cNvPicPr/>
          <p:nvPr/>
        </p:nvPicPr>
        <p:blipFill>
          <a:blip r:embed="rId1"/>
          <a:stretch/>
        </p:blipFill>
        <p:spPr>
          <a:xfrm>
            <a:off x="6443640" y="115920"/>
            <a:ext cx="2476440" cy="30481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611280" y="1628640"/>
            <a:ext cx="626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ворчество Гайд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4" descr="123563498380b8"/>
          <p:cNvPicPr/>
          <p:nvPr/>
        </p:nvPicPr>
        <p:blipFill>
          <a:blip r:embed="rId1"/>
          <a:stretch/>
        </p:blipFill>
        <p:spPr>
          <a:xfrm>
            <a:off x="395280" y="1125360"/>
            <a:ext cx="2160720" cy="2009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556000" y="1413000"/>
            <a:ext cx="61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ий композитор середины 18 в. имел в своем распоряжении несколько разных сти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о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втор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ерный: в нем итальянская манера преобладала вплоть до времен Моцар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трет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8:36:29Z</dcterms:created>
  <dc:creator>HOME</dc:creator>
  <dc:description/>
  <dc:language>en-US</dc:language>
  <cp:lastModifiedBy>LEGION</cp:lastModifiedBy>
  <dcterms:modified xsi:type="dcterms:W3CDTF">2015-04-02T07:22:41Z</dcterms:modified>
  <cp:revision>7</cp:revision>
  <dc:subject/>
  <dc:title>Музыка эпохи Классицизма (обзорная лекция)</dc:title>
</cp:coreProperties>
</file>